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CAFA-8F1B-41A4-B9C2-7D75282F7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EE2E-4CE5-4E8C-90AF-F300CB3D4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399C-DC52-4FD0-9964-4E72C8AE9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7216-4443-4DC8-9A7D-0581D3D97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74D24-B97E-4082-BE0D-E86A8E5CA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4EF51-AC92-40EC-AB9E-244DC87D6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C314F-C8E7-412C-9566-A5A26C1D3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87DC8-BA2E-4D4E-92B8-DEE385A1C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A3508-2A6B-4316-A91F-3E3DAE954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664E0-35B3-4EB6-AC3F-4AA55647A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4389F-6D5F-495F-A58F-40A948F85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BEC5-20D9-4A4D-8B23-84C3994BC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E0006-6736-4FD1-B415-528831A1A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4499B-31EA-41A5-AB86-969B21D1D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85B17-A0AE-4EC2-96C9-6FFDADDBF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4C724-E3E8-4528-BAD2-1AB16D2AA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ABD63-92A6-4B69-B7B9-F32095DB4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9439-BF1B-44D2-A41B-59D0FF67D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BFCC-1073-4C6C-B4CE-8FFB5A9A1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97F6-E25C-48EE-93AE-B42EFEA76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10D0-B12B-48D8-8D25-770E93709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DD9E-5144-4CE2-9EAB-317E1C904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36A8-6F7C-45C9-8B79-5BFAF4AD3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8DDF-134A-4C82-95AB-D8324288D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156C5-1F21-46C5-AD2E-F041C9C88E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DB568-290C-447E-8C2C-221BE924AD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11</a:t>
            </a: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장 지체장애아 교육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정의 및 분류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미국 공법에 의한 지체장애의 정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형외과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경학적 손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하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편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디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단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삼지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더블 헤미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의 정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최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뇌성마비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체장애 중 가장 높은 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이상과 관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적 능력의 다양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가 장애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장애와 함께 지능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 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성마비의 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직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50-6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긴장이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수의 운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25-3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의 대근육 통제 문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실조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1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 조정의 어려움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기타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분척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진행성 근위축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골형성 부전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척수 손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간질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대발작과 소발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심리요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작기록 양식의 예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간질에 대한 대처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관찰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컴퓨터 보조 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Any Questions??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411280" y="1916280"/>
            <a:ext cx="4248360" cy="38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8T16:46:33Z</dcterms:created>
  <dc:creator>.</dc:creator>
  <dc:description/>
  <dc:language>en-US</dc:language>
  <cp:lastModifiedBy>f</cp:lastModifiedBy>
  <dcterms:modified xsi:type="dcterms:W3CDTF">2007-05-17T01:34:04Z</dcterms:modified>
  <cp:revision>14</cp:revision>
  <dc:subject/>
  <dc:title>제 11장 전환교육</dc:title>
</cp:coreProperties>
</file>